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pct" ContentType="image/x-pict"/>
  <Override PartName="/ppt/media/image13.pct" ContentType="image/x-pict"/>
  <Override PartName="/ppt/media/image8.pct" ContentType="image/x-pict"/>
  <Override PartName="/ppt/media/image1.pct" ContentType="image/x-pict"/>
  <Override PartName="/ppt/media/image2.pct" ContentType="image/x-pict"/>
  <Override PartName="/ppt/media/CHIMES.WAV" ContentType="audio/x-wav"/>
  <Override PartName="/ppt/media/image4.pct" ContentType="image/x-pict"/>
  <Override PartName="/ppt/media/image3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  <p:custShowLst>
    <p:custShow name="(1.1)" id="0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52417-A57A-41D1-A7ED-7AE4EFD479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distribution below, tell how many people are represented and identify the mode, median, and r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m 1: 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m 2: 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m 3 : -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5B55-1401-4322-BEE4-58F4106B7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2246-0A3F-4FC9-85CF-EE51734BD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29CB-34F7-41EF-957F-3A89329E1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314F-E53C-4C12-B89D-2690CF60D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346F-69BC-4504-83CB-8CDFB1320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2C9B-48FF-4DED-A024-D3361CBD1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6FE4-C1A5-4685-9F66-2D8201572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3FB2-1F57-4070-8C55-56F79358E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F189-BF30-46C5-9577-2BF90A1B4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654C-9952-4136-A5DA-CB059EA6B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8426-AAE6-4A76-815A-C864B4413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47DF-5ABF-44F6-92C5-8233034EA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C9EF5-BE36-4631-A301-91908B885D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5.pct"/><Relationship Id="rId4" Type="http://schemas.openxmlformats.org/officeDocument/2006/relationships/package" Target="../embeddings/oleObject2.docx"/><Relationship Id="rId5" Type="http://schemas.openxmlformats.org/officeDocument/2006/relationships/image" Target="../media/image6.pct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7.pct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8.xml"/><Relationship Id="rId5" Type="http://schemas.openxmlformats.org/officeDocument/2006/relationships/slide" Target="slide10.xml"/><Relationship Id="rId6" Type="http://schemas.openxmlformats.org/officeDocument/2006/relationships/slide" Target="slide15.xml"/><Relationship Id="rId7" Type="http://schemas.openxmlformats.org/officeDocument/2006/relationships/slide" Target="slide15.xml"/><Relationship Id="rId8" Type="http://schemas.openxmlformats.org/officeDocument/2006/relationships/slide" Target="slide16.xml"/><Relationship Id="rId9" Type="http://schemas.openxmlformats.org/officeDocument/2006/relationships/slide" Target="slide14.xml"/><Relationship Id="rId10" Type="http://schemas.openxmlformats.org/officeDocument/2006/relationships/slide" Target="slide18.xml"/><Relationship Id="rId11" Type="http://schemas.openxmlformats.org/officeDocument/2006/relationships/slide" Target="slide3.xml"/><Relationship Id="rId12" Type="http://schemas.openxmlformats.org/officeDocument/2006/relationships/slide" Target="slide11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" Target="slide9.xml"/><Relationship Id="rId17" Type="http://schemas.openxmlformats.org/officeDocument/2006/relationships/slide" Target="slide17.xml"/><Relationship Id="rId18" Type="http://schemas.openxmlformats.org/officeDocument/2006/relationships/slide" Target="slide8.xml"/><Relationship Id="rId19" Type="http://schemas.openxmlformats.org/officeDocument/2006/relationships/slide" Target="slide7.xml"/><Relationship Id="rId20" Type="http://schemas.openxmlformats.org/officeDocument/2006/relationships/slide" Target="slide6.xml"/><Relationship Id="rId21" Type="http://schemas.openxmlformats.org/officeDocument/2006/relationships/slide" Target="slide19.xml"/><Relationship Id="rId22" Type="http://schemas.openxmlformats.org/officeDocument/2006/relationships/slide" Target="slide19.xml"/><Relationship Id="rId23" Type="http://schemas.openxmlformats.org/officeDocument/2006/relationships/slide" Target="slide20.xml"/><Relationship Id="rId24" Type="http://schemas.openxmlformats.org/officeDocument/2006/relationships/slide" Target="slide21.xml"/><Relationship Id="rId25" Type="http://schemas.openxmlformats.org/officeDocument/2006/relationships/slide" Target="slide22.xml"/><Relationship Id="rId26" Type="http://schemas.openxmlformats.org/officeDocument/2006/relationships/slide" Target="slide3.xml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9.pct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pct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pct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pct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pct"/><Relationship Id="rId4" Type="http://schemas.openxmlformats.org/officeDocument/2006/relationships/package" Target="../embeddings/oleObject2.docx"/><Relationship Id="rId5" Type="http://schemas.openxmlformats.org/officeDocument/2006/relationships/image" Target="../media/image2.pct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3.pct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4.pct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5238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r.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676520" y="838080"/>
            <a:ext cx="58672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Jeopardy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66680" y="990720"/>
            <a:ext cx="7162920" cy="4038480"/>
          </a:xfrm>
          <a:prstGeom prst="wedgeRectCallout">
            <a:avLst>
              <a:gd name="adj1" fmla="val -25486"/>
              <a:gd name="adj2" fmla="val 14935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least common multiple of 30 and 42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90720" y="15228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7391520" y="5943600"/>
            <a:ext cx="1752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0(6.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228600"/>
            <a:ext cx="716292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7543440" y="61718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66680" y="9907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ure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066680" y="762120"/>
          <a:ext cx="7162920" cy="3504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762120"/>
                    <a:ext cx="7162920" cy="35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1905120" y="4114800"/>
          <a:ext cx="7238880" cy="8967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05120" y="4114800"/>
                    <a:ext cx="7238880" cy="89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7238880" y="586728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1" action="ppaction://hlinksldjump"/>
          </p:cNvPr>
          <p:cNvSpPr/>
          <p:nvPr/>
        </p:nvSpPr>
        <p:spPr>
          <a:xfrm>
            <a:off x="44956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1440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the distribution below, tell how many people are represent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identify the mode, median, and ran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90720" y="0"/>
            <a:ext cx="716256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10 people represented. The mode is 4. The median is 5. The range is 4–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371600" y="762120"/>
          <a:ext cx="6095880" cy="3504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762120"/>
                    <a:ext cx="6095880" cy="35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7238880" y="5790960"/>
            <a:ext cx="1905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rId1" action="ppaction://hlinksldjump"/>
          </p:cNvPr>
          <p:cNvSpPr/>
          <p:nvPr/>
        </p:nvSpPr>
        <p:spPr>
          <a:xfrm>
            <a:off x="44197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4425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380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; 5-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76520" y="152388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1219320"/>
            <a:ext cx="8610480" cy="29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, 5, 6, 6, 6, 7, 7, 7, 7, 7, 8, 8, 8, 8, 8, 8, 9, 9, 9, 10,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any students are in Mr. Watkins’s afternoon math class? Explain how you found your answ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ow do the range of the quiz scores var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rId1" action="ppaction://hlinksldjump"/>
          </p:cNvPr>
          <p:cNvSpPr/>
          <p:nvPr/>
        </p:nvSpPr>
        <p:spPr>
          <a:xfrm>
            <a:off x="46483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2.5 / .25 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9072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7467120" y="601992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: 40, 2: 75, 3: 105, 4: 1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143000" y="990720"/>
          <a:ext cx="6705720" cy="36208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990720"/>
                    <a:ext cx="6705720" cy="36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1905120" y="4876920"/>
            <a:ext cx="509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THE MEASURE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ANGLES 1,2,3 AND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rId1" action="ppaction://hlinksldjump"/>
          </p:cNvPr>
          <p:cNvSpPr/>
          <p:nvPr/>
        </p:nvSpPr>
        <p:spPr>
          <a:xfrm>
            <a:off x="43434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14400" y="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tem-and-leaf plot shows the number of f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were caught by several ships in a fishing flee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any ships caught 37 fish or few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295280" y="2743200"/>
          <a:ext cx="5943600" cy="2070000"/>
        </p:xfrm>
        <a:graphic>
          <a:graphicData uri="http://schemas.openxmlformats.org/drawingml/2006/table">
            <a:tbl>
              <a:tblPr/>
              <a:tblGrid>
                <a:gridCol w="1471680"/>
                <a:gridCol w="4471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e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av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3 3 5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2 4 5 8 9 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1 2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6934320" y="5867280"/>
            <a:ext cx="2209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rId1" action="ppaction://hlinksldjump"/>
          </p:cNvPr>
          <p:cNvSpPr/>
          <p:nvPr/>
        </p:nvSpPr>
        <p:spPr>
          <a:xfrm>
            <a:off x="457200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12193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, 5, 6, 6, 6, 7, 7, 7, 7, 7, 8, 8, 8, 8, 8, 8, 9, 9, 9, 10,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mode of the scor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median of the scor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;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7391520" y="6095520"/>
            <a:ext cx="175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30 x 4.28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284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5e76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>
            <a:hlinkClick r:id="rId1" action="ppaction://hlinksldjump"/>
          </p:cNvPr>
          <p:cNvSpPr/>
          <p:nvPr/>
        </p:nvSpPr>
        <p:spPr>
          <a:xfrm>
            <a:off x="259092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3" action="ppaction://hlinksldjump"/>
          </p:cNvPr>
          <p:cNvSpPr/>
          <p:nvPr/>
        </p:nvSpPr>
        <p:spPr>
          <a:xfrm>
            <a:off x="4952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4" action="ppaction://hlinksldjump"/>
          </p:cNvPr>
          <p:cNvSpPr/>
          <p:nvPr/>
        </p:nvSpPr>
        <p:spPr>
          <a:xfrm>
            <a:off x="259092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5" action="ppaction://hlinksldjump"/>
          </p:cNvPr>
          <p:cNvSpPr/>
          <p:nvPr/>
        </p:nvSpPr>
        <p:spPr>
          <a:xfrm>
            <a:off x="716292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6" action="ppaction://hlinksldjump"/>
          </p:cNvPr>
          <p:cNvSpPr/>
          <p:nvPr/>
        </p:nvSpPr>
        <p:spPr>
          <a:xfrm>
            <a:off x="380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7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8" action="ppaction://hlinksldjump"/>
          </p:cNvPr>
          <p:cNvSpPr/>
          <p:nvPr/>
        </p:nvSpPr>
        <p:spPr>
          <a:xfrm>
            <a:off x="2590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9" action="ppaction://hlinksldjump"/>
          </p:cNvPr>
          <p:cNvSpPr/>
          <p:nvPr/>
        </p:nvSpPr>
        <p:spPr>
          <a:xfrm>
            <a:off x="716292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0" action="ppaction://hlinksldjump"/>
          </p:cNvPr>
          <p:cNvSpPr/>
          <p:nvPr/>
        </p:nvSpPr>
        <p:spPr>
          <a:xfrm>
            <a:off x="7162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0"/>
            <a:ext cx="1600200" cy="9471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raction/Deci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8280" y="152280"/>
            <a:ext cx="1524240" cy="7038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hapes and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380880"/>
            <a:ext cx="1600200" cy="45972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ime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010280" y="380880"/>
            <a:ext cx="175284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yst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11" action="ppaction://hlinksldjump"/>
          </p:cNvPr>
          <p:cNvSpPr/>
          <p:nvPr/>
        </p:nvSpPr>
        <p:spPr>
          <a:xfrm>
            <a:off x="380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12" action="ppaction://hlinksldjump"/>
          </p:cNvPr>
          <p:cNvSpPr/>
          <p:nvPr/>
        </p:nvSpPr>
        <p:spPr>
          <a:xfrm>
            <a:off x="380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3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14" action="ppaction://hlinksldjump"/>
          </p:cNvPr>
          <p:cNvSpPr/>
          <p:nvPr/>
        </p:nvSpPr>
        <p:spPr>
          <a:xfrm>
            <a:off x="2590920" y="3429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15" action="ppaction://hlinksldjump"/>
          </p:cNvPr>
          <p:cNvSpPr/>
          <p:nvPr/>
        </p:nvSpPr>
        <p:spPr>
          <a:xfrm>
            <a:off x="4952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16" action="ppaction://hlinksldjump"/>
          </p:cNvPr>
          <p:cNvSpPr/>
          <p:nvPr/>
        </p:nvSpPr>
        <p:spPr>
          <a:xfrm>
            <a:off x="495288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rId17" action="ppaction://hlinksldjump"/>
          </p:cNvPr>
          <p:cNvSpPr/>
          <p:nvPr/>
        </p:nvSpPr>
        <p:spPr>
          <a:xfrm>
            <a:off x="4952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18" action="ppaction://hlinksldjump"/>
          </p:cNvPr>
          <p:cNvSpPr/>
          <p:nvPr/>
        </p:nvSpPr>
        <p:spPr>
          <a:xfrm>
            <a:off x="38088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9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rId20" action="ppaction://hlinksldjump"/>
          </p:cNvPr>
          <p:cNvSpPr/>
          <p:nvPr/>
        </p:nvSpPr>
        <p:spPr>
          <a:xfrm>
            <a:off x="7162920" y="1066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rId21" action="ppaction://hlinksldjump"/>
          </p:cNvPr>
          <p:cNvSpPr/>
          <p:nvPr/>
        </p:nvSpPr>
        <p:spPr>
          <a:xfrm>
            <a:off x="380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2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23" action="ppaction://hlinksldjump"/>
          </p:cNvPr>
          <p:cNvSpPr/>
          <p:nvPr/>
        </p:nvSpPr>
        <p:spPr>
          <a:xfrm>
            <a:off x="2590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24" action="ppaction://hlinksldjump"/>
          </p:cNvPr>
          <p:cNvSpPr/>
          <p:nvPr/>
        </p:nvSpPr>
        <p:spPr>
          <a:xfrm>
            <a:off x="4952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rId25" action="ppaction://hlinksldjump"/>
          </p:cNvPr>
          <p:cNvSpPr/>
          <p:nvPr/>
        </p:nvSpPr>
        <p:spPr>
          <a:xfrm>
            <a:off x="7162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057400" y="144792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9480" y="13716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6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7467120" y="5790960"/>
            <a:ext cx="1676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rId1" action="ppaction://hlinksldjump"/>
          </p:cNvPr>
          <p:cNvSpPr/>
          <p:nvPr/>
        </p:nvSpPr>
        <p:spPr>
          <a:xfrm>
            <a:off x="44956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at is the measure o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? Explain how you found your answ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at is the measure o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? Explain how you found your answ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gle 1: 110, Angle 3: 1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371600" y="914400"/>
          <a:ext cx="6400800" cy="3368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914400"/>
                    <a:ext cx="6400800" cy="33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7315200" y="5867280"/>
            <a:ext cx="1828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0880" y="0"/>
            <a:ext cx="4343400" cy="6324480"/>
          </a:xfrm>
          <a:prstGeom prst="wedgeRectCallout">
            <a:avLst>
              <a:gd name="adj1" fmla="val 13231"/>
              <a:gd name="adj2" fmla="val 833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the chart below, whi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following statements is fal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e made the most free th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5029200" y="1219320"/>
          <a:ext cx="4114800" cy="5638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29200" y="1219320"/>
                    <a:ext cx="411480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685800" y="2652840"/>
          <a:ext cx="3886200" cy="4205160"/>
        </p:xfrm>
        <a:graphic>
          <a:graphicData uri="http://schemas.openxmlformats.org/drawingml/2006/table">
            <a:tbl>
              <a:tblPr/>
              <a:tblGrid>
                <a:gridCol w="38862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y made more free throws than Shea or Ji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made more free throws than Ji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te made the most free throw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ea made less free throws than Nate and Am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7772400" y="5867280"/>
            <a:ext cx="1371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219320" y="2362320"/>
          <a:ext cx="6933960" cy="1066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2362320"/>
                    <a:ext cx="693396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ily Dou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838080" y="1544760"/>
          <a:ext cx="8153640" cy="4703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544760"/>
                    <a:ext cx="8153640" cy="470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"/>
          <p:cNvGraphicFramePr/>
          <p:nvPr/>
        </p:nvGraphicFramePr>
        <p:xfrm>
          <a:off x="304920" y="1600200"/>
          <a:ext cx="15803280" cy="3733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600200"/>
                    <a:ext cx="1580328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2273400" y="266760"/>
            <a:ext cx="362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wer to the Daily Dou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6552720" y="60955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193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D. J.’s Drink Stand, Erika ordered a cup of fru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nch made with the following recip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4 cup lemon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12 cup cranberry ju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 cup orange ju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fraction of Erika’s cup will be orange juic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2193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705360" y="6095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ow many degrees will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inute hand on a clock mo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 1 full rotatio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0 deg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219320"/>
            <a:ext cx="7162920" cy="4038480"/>
          </a:xfrm>
          <a:prstGeom prst="wedgeRectCallout">
            <a:avLst>
              <a:gd name="adj1" fmla="val -20833"/>
              <a:gd name="adj2" fmla="val 199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nd the prime factorization of the following two number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how your work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4400" y="0"/>
            <a:ext cx="7086600" cy="10159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752480" y="685800"/>
          <a:ext cx="1295640" cy="345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685800"/>
                    <a:ext cx="1295640" cy="3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1676520" y="228600"/>
          <a:ext cx="914400" cy="37800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76520" y="228600"/>
                    <a:ext cx="91440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7315200" y="5943600"/>
            <a:ext cx="1828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is the greatest comm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actor of 30 and 42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90720" y="228600"/>
            <a:ext cx="723888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1" action="ppaction://hlinksldjump"/>
          </p:cNvPr>
          <p:cNvSpPr/>
          <p:nvPr/>
        </p:nvSpPr>
        <p:spPr>
          <a:xfrm>
            <a:off x="41148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137160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3/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600200" y="1523880"/>
          <a:ext cx="6172200" cy="31291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1523880"/>
                    <a:ext cx="6172200" cy="31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7696080" y="5638320"/>
            <a:ext cx="1447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rId1" action="ppaction://hlinksldjump"/>
          </p:cNvPr>
          <p:cNvSpPr/>
          <p:nvPr/>
        </p:nvSpPr>
        <p:spPr>
          <a:xfrm>
            <a:off x="42670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43000" y="17524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nd the area of each shap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: 10 B: 7.5 C: 17.5 D: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066680" y="685800"/>
          <a:ext cx="7086600" cy="4267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685800"/>
                    <a:ext cx="708660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>
            <a:hlinkClick r:id="rId1" action="ppaction://hlinksldjump"/>
          </p:cNvPr>
          <p:cNvSpPr/>
          <p:nvPr/>
        </p:nvSpPr>
        <p:spPr>
          <a:xfrm>
            <a:off x="41911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dith is planning a party for her younger brot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 has 36 prizes and 24 balloons. How many childr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she have at the party so that each child gets an equ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prizes and an equal number of balloon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 your answ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228600"/>
            <a:ext cx="723924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dith could have 1, 2, 3, 4, 6, or 12 children at the party. These numbers are common factors of 24 and 3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22:24:04Z</dcterms:created>
  <dc:creator>Jerry Myers</dc:creator>
  <dc:description>Created by Jerry Myers is 1998 for a class.</dc:description>
  <dc:language>en-US</dc:language>
  <cp:lastModifiedBy>Kevin Murphy</cp:lastModifiedBy>
  <cp:lastPrinted>2001-01-31T16:21:13Z</cp:lastPrinted>
  <dcterms:modified xsi:type="dcterms:W3CDTF">2008-03-24T16:48:38Z</dcterms:modified>
  <cp:revision>63</cp:revision>
  <dc:subject/>
  <dc:title>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998</vt:lpwstr>
  </property>
</Properties>
</file>